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441-8A68-4B5E-BC5D-207C3C7A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F25-2BE6-481C-8F50-D286D9F9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050-CD1C-4A3D-A556-55086748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CE3-5A02-49AE-9E9A-C1CCDD62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634-0999-4F16-9217-8BCB7F69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67E6-0D7B-424C-8366-7C148453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D68A-93F2-4BBB-9CCD-A201EA6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64B-2C32-4791-AC33-2143FE21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8F2B-008B-4769-9E54-B42B7E62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05AB-7A50-463D-9B8F-B67C5E7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B51B-2A07-46F4-9581-889F319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533-DB17-45DE-A479-3E7741D8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50D5-AB45-414A-9326-44FD9CB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BDF7-4FF8-4CCB-A773-6EDCEAB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3EEC-E645-44A7-A01E-0C36CB8E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C95-31F9-473F-BC2D-68732EAF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2392-DBC2-490D-9B88-EF85D5E9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D08-F406-4892-A4CD-4533F0F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A35-E5D1-400A-9084-01C1EA67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BF6-262A-4D2A-B122-F350623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956-EB4B-4DCF-B4B8-6635C283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378-8A30-43FA-9ED8-3244140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2CD-4D72-4793-A69B-F565C66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C52-1111-4188-B297-934A1A5B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763-7DD4-41ED-BDCC-05A7DE0C1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D770-900D-432A-B0A2-A4E6CE50B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5/52/Black_Taoist_symbol.PNG&amp;imgrefurl=http://commons.wikimedia.org/wiki/File:Black_Taoist_symbol.PNG&amp;usg=__2DC7ro5fBacao9Uyv_Twkn8Hcfk=&amp;h=294&amp;w=286&amp;sz=32&amp;hl=en&amp;start=2&amp;tbnid=ZUjkjUuBEmvZLM:&amp;tbnh=115&amp;tbnw=112&amp;prev=/images%3Fq%3Dtaoism%2Bsymbol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Q:  What are the major world religions? 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L85(RR5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w: Regents Practice Ques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The ancient civilizations of Mesopotamia and Egypt were similar in that both culture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 developed along riv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 used the ziggurat form for their temp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 established trade routes to Ch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 used a hieroglyphic wri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• The United Nations Declaration of Human Righ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Article from Mohandas Gandhi’s Indian Opin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Excerpt from the letters of Catherine the Grea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hree documents are considere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 secondary sour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 examples of oral tradi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 primary sour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 statements of different religious belie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ddh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r/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and Ch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el of Dha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Noble Tru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Fold Path--- methods to Nirv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(Figure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dhartha Gautama aka Buddh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ddhism-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ightenment – spiritual well be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Fold Path steps to p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p selfish desi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3267000"/>
            <a:ext cx="4286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fucian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/ Lo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al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 (Figur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cius –Philosopher and Fou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6478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cianism-  Important Beliefs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to el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ness of people natur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 must be orde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59064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oism (Taoism)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/ Lo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ng Y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ode J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 ( Figu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ozi (founder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981080"/>
            <a:ext cx="3189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oism –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tranquil life by excluding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draw from foul soc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relationships with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ristian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/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stine in Ancient R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ld W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y Cro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ble (Old and New Testa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---Fig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1878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ristianity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the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s the son of God and the Mes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and eternal life to foll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y and sympathy to oth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da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/ Lo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Crescent –Hebrew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 of Dav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ah (written in Hebrew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 (Figu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28576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daism –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theis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rah is a sacred recording of laws in Jewish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gave Moses the 10 commandments through Mo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la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/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a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East/ Africa/ Euro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and Cresc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Pill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(Figu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hammad is the Proph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lam–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theis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at – 5 time daily pray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jj – once a lifetime journey to Mec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ing the po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/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 Valley –I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das--- collections of prayers and st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(Figur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hnu the Preser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va the Destroy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nduism –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theis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ma –positive life a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arma –moral du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e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57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8:32:55Z</dcterms:created>
  <dc:creator>NYCDOE</dc:creator>
  <dc:description/>
  <dc:language>en-US</dc:language>
  <cp:lastModifiedBy>NYCDOE</cp:lastModifiedBy>
  <dcterms:modified xsi:type="dcterms:W3CDTF">2009-05-14T19:49:09Z</dcterms:modified>
  <cp:revision>3</cp:revision>
  <dc:subject/>
  <dc:title>FQ:  What are the major world religions?  L85(RR5) </dc:title>
</cp:coreProperties>
</file>